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46D-9CBB-4469-A95F-9538BC66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6C6-7C6E-4970-8291-5A8AC20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CC7-AC9B-42EB-9FAA-04F3CCCF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F4A-F548-4A12-A197-92E53A85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9DEF-4DD2-425C-A408-3E224583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E558-1AC6-4323-AE43-351E0D08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8AC0-0BC8-4CF0-B964-94C8324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273-12D6-4DAC-A5E4-3ED1752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930C-90CC-449A-AD1C-AF65089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09A9-C7E8-4C96-923D-1A028BB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59F-7C23-42CE-BB57-0FAF82E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E0E-BED7-4362-B9A4-CB57CF0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D44A-F8BC-48C7-B203-C0F9D90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0AD-3565-424B-B145-6677CA9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56C-C66D-4FD9-901B-DCE21AB1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29D-720A-4031-99EF-38348D97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0EF8-10F0-4B99-9C9A-502F1ADC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E6C-0543-4C96-A3AE-076241AC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E45-1802-4B6C-9063-8F2BF76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883-F50B-4CE8-8A8A-B0876336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F71-0F3F-4F0B-A900-EFAD445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927-584D-4FA6-9464-066734A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452-F8EE-4598-B3F3-619319D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7C5-0CCC-4CAD-A84F-8E3014F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8CB-ADDF-4E5D-8419-88C1F0DB3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558B-A242-49CE-9483-36C8FCD5EF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685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Virtual Field Tr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ing Great Art Museums all over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749600" cy="183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1501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ogle Art Proj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334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e museums from around the world, discover and view hundreds of artworks at incredible zoom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4343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252440"/>
            <a:ext cx="6477120" cy="430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53080" y="5486400"/>
            <a:ext cx="2286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r Gallery of 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son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shington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162560" y="2819520"/>
            <a:ext cx="228600" cy="25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80880"/>
            <a:ext cx="2971800" cy="105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seum of Modern A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1219320"/>
            <a:ext cx="144792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86400" y="2590560"/>
            <a:ext cx="17524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209680"/>
            <a:ext cx="20574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ropolitan Museum of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95880" y="2514240"/>
            <a:ext cx="129564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581280"/>
            <a:ext cx="25909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Frick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9560" y="304920"/>
            <a:ext cx="572472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1219320"/>
            <a:ext cx="22860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te Nationalgale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li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24280" y="1981080"/>
            <a:ext cx="281952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47960" y="3581280"/>
            <a:ext cx="236196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895480"/>
            <a:ext cx="198144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maldegale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li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1066680"/>
            <a:ext cx="2666880" cy="2667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80880"/>
            <a:ext cx="23623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n Gogh 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sterdam, Hol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505320"/>
            <a:ext cx="21337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eo Reina Sof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drid,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267080"/>
            <a:ext cx="1447560" cy="1524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95280"/>
            <a:ext cx="19810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ational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ndon, Eng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981080"/>
            <a:ext cx="19051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800600"/>
            <a:ext cx="26668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eum Kam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ague, Czech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723920" y="4572000"/>
            <a:ext cx="175284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1905120" cy="84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useo Thyssen - Bornemis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drid, S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5657760" cy="6477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057400"/>
            <a:ext cx="22096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lace of Versail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ailles,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724280"/>
            <a:ext cx="236232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743200"/>
            <a:ext cx="1981080" cy="1752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600200"/>
            <a:ext cx="990720" cy="2362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85800"/>
            <a:ext cx="381240" cy="2514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324480" y="2437920"/>
            <a:ext cx="4572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143000"/>
            <a:ext cx="304920" cy="274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457200"/>
            <a:ext cx="22860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jks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sterdam, Hol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914400"/>
            <a:ext cx="198144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te Brit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ndon, Eng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0"/>
            <a:ext cx="32004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tate Tretyakov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scow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67080"/>
            <a:ext cx="19810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ffizi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lorence, Ita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191120"/>
            <a:ext cx="32767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tate Hermitage 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. Petersburg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02:54Z</dcterms:created>
  <dc:creator>Patrick J. Mooney</dc:creator>
  <dc:description/>
  <dc:language>en-US</dc:language>
  <cp:lastModifiedBy>Patrick J. Mooney</cp:lastModifiedBy>
  <dcterms:modified xsi:type="dcterms:W3CDTF">2011-10-17T02:53:03Z</dcterms:modified>
  <cp:revision>14</cp:revision>
  <dc:subject/>
  <dc:title>Slide 1</dc:title>
</cp:coreProperties>
</file>